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0920" y="-36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59360" cy="3716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7844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0920" y="9430920"/>
            <a:ext cx="2940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814AF-8210-4D77-9726-6B068516ED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4E00-DFCF-49B4-92D2-ECB48BA777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Text Box 2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2F94A-E366-47E3-8F9E-5D34A50086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78984-1B0F-4B4F-AD97-098439D11B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A341A-6D1C-47F8-8932-D2FC45E44DD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CD33E-834E-469B-BE7F-339D64C928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29EFA-1720-46BA-AE3B-F1D81BBD6F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Text Box 6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trinsis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Maß für die Abweichung zweier identischer Gene unter gleichen intrazellulären Bedingung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403E6-F455-4307-90AF-AAC68C6653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1DFCC-6680-4E7D-BBAC-4C698676AC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6B1A4-8FD3-487A-9BA4-0A8C9474E7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8F71B-AD3A-4475-BE01-75946DA40E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FA3DE-C9F3-4EDB-80D9-4581872200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16265-3978-49FE-8288-AAA29763D4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9E864-CCDD-4246-BF11-534A72CE66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4E73D-FF98-46DF-8554-3DCF7C7762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ACAD3-F1A9-4AB6-9EAF-25DFF1A0A1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51280" y="9431280"/>
            <a:ext cx="29401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9736-582A-4D39-ADA1-BE4DD7F685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Text Box 2"/>
          <p:cNvSpPr/>
          <p:nvPr/>
        </p:nvSpPr>
        <p:spPr>
          <a:xfrm>
            <a:off x="906480" y="4716360"/>
            <a:ext cx="4984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749-CBC7-4E62-A089-B9C3C400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01E-5BEA-4AD5-89BE-7D54FC0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809-9420-41C6-89FE-0C901466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840" y="198072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840" y="4126680"/>
            <a:ext cx="250056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7E1-F530-4B08-ADC7-4B5F47F5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C5B-1086-4FA4-8E74-E2D94CE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0A8-6A9E-4A7C-9304-4A58F89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45F-EFBD-4084-8FF7-C6C6662E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AC3-9EBD-4011-B51D-B5A5CA42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FC4-5C30-4527-88E0-129B2A79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26C-9027-4E38-A473-B145FA2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2668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AB1-AB52-44F6-A0BC-CB70665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0720"/>
            <a:ext cx="37897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680"/>
            <a:ext cx="7765920" cy="19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7B4-04DB-473B-9A90-7D0C9482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6592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B604-1D96-4638-9C9A-4BBBB7D0515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4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657600" y="914400"/>
            <a:ext cx="31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4400" spc="-1" strike="noStrike">
                <a:solidFill>
                  <a:srgbClr val="ff0000"/>
                </a:solidFill>
                <a:latin typeface="Times New Roman"/>
              </a:rPr>
              <a:t>What is life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403848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1. How can „biological order“ (life) be explaind by the basic laws of phys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2. How does life deal with the statistic nature of molecular intera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... wenn wir so empfindliche Organismen wären, daß ein einzelnes Atom oder meinet-wegen ein paar Atome einen wahrnehmbaren Eindruck auf unsere Sinnesorgane machen könnten - du lieber Himmel, wie sähe das Leben dann aus!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22446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657600" y="17524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hrödinger considered 1943 the consequences of the molecular nature of the genetic code in a lecture about „Physics and biology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xperiment: stochastisc Gen-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48320" y="2117880"/>
            <a:ext cx="4267080" cy="3558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228600" y="175248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stinguish between „intrinsic noise“ (gene expression) and „extrinsic noise“(variations of other cell components such as RNA polymer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</a:rPr>
              <a:t>Idea for an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 for CFP (green fluorescent protein) und YFP (yellow fluorescent protein, shown in red) are controlled by the same promotor, hence the mean concentration of CFP and YFP is eq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&gt; Expression probability should di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nly due to intrinsic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876920" y="5791320"/>
            <a:ext cx="4114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: no  intrinsic noise =&gt; noise is correlated red+green=yel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: intrinsic noise =&gt; noise not correlated, different col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857400" cy="300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81916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407040" y="220968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wo distinguishable genes (CFP and YFP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led by the same promo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724280" y="3352680"/>
          <a:ext cx="4114800" cy="199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352680"/>
                    <a:ext cx="41148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"/>
          <p:cNvSpPr/>
          <p:nvPr/>
        </p:nvSpPr>
        <p:spPr>
          <a:xfrm>
            <a:off x="4648320" y="540216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indu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low fluoresc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781680" y="5408640"/>
            <a:ext cx="18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igh induc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high fluoresce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w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791320" y="129528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, M. et al,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sche Genexpression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einer einzelnen Z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152280" y="3124080"/>
            <a:ext cx="4267440" cy="332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6130800" y="15368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5943600" y="1447920"/>
                <a:ext cx="93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5715000" y="5562720"/>
                <a:ext cx="2209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5562720" y="3397320"/>
            <a:ext cx="1752480" cy="102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638680" y="4419720"/>
            <a:ext cx="1828800" cy="960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723924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4"/>
          <a:stretch/>
        </p:blipFill>
        <p:spPr>
          <a:xfrm>
            <a:off x="457200" y="3056040"/>
            <a:ext cx="3886200" cy="335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80880" y="234648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inherent stochasticity with identical external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80880" y="1584360"/>
            <a:ext cx="717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Extrinsic noise: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ell to cell variance of ex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562720" y="1371600"/>
            <a:ext cx="3047760" cy="990720"/>
          </a:xfrm>
          <a:prstGeom prst="rect">
            <a:avLst/>
          </a:prstGeom>
          <a:noFill/>
          <a:ln cap="sq" w="2844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ochastic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43600" cy="5202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5257800" y="632448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Elowitz et al.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„intrinsisc noise“ decreases with increasing protein concentratio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(due to decreased promotor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680520" y="6477120"/>
            <a:ext cx="23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Elowitz, M. et al, Scienc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00800" cy="4397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477120" y="4495680"/>
                <a:ext cx="19810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=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+η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281952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" y="4888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importance of statistical fluctuations in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 a fluctuating environment, heterogeneous cell populations have better chances to grow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ontrol of lac.operon, immune system, lysis-networks of lambda-ph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versification in isogene phenotypes und celltyp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stem cell divers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6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fficiency increase in signal transduc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e.g. chemotaxis regulation or stochastic resonance (ear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2120" y="1752480"/>
            <a:ext cx="69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increased with „positive feedback loops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th 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14400" y="6134040"/>
            <a:ext cx="7772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abilisation  of metabolics / homeosta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38440" y="5349960"/>
            <a:ext cx="67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ise can be decreased via „negative feedback loops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iochemical noise: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uctuation of protein concen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724280" y="20527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mall numbers of copies of many components e.g. Polymerases, regolatory proteins,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Stochastic effects in gene expression play an important role for variations of protein concentrations of bacteria with identical ge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symetries emerge, which are amplified by feedback loops and influence the development of the c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114800" cy="351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09480" y="190512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in the express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185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terministic model of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rcRect l="0" t="21802" r="0" b="0"/>
          <a:stretch/>
        </p:blipFill>
        <p:spPr>
          <a:xfrm>
            <a:off x="152280" y="3121200"/>
            <a:ext cx="8763120" cy="327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038840" cy="279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248080" y="647532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rom JJ Collins, Nature Reviews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efinitions for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257800" y="1066680"/>
            <a:ext cx="33829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209680" y="2209680"/>
                <a:ext cx="1849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4"/>
          <p:cNvSpPr/>
          <p:nvPr/>
        </p:nvSpPr>
        <p:spPr>
          <a:xfrm>
            <a:off x="762120" y="45482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85440" y="341316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69600" y="609588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oise amplitude decreases with increa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mber of particl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550080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: number of data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663240" y="6477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Rao, Wolf,Arkin, Nature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673200" y="2438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2286000" y="3200400"/>
                <a:ext cx="216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Pr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e>
                    </m:d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+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1"/>
              <p:cNvSpPr txBox="1"/>
              <p:nvPr/>
            </p:nvSpPr>
            <p:spPr>
              <a:xfrm>
                <a:off x="2362320" y="4335480"/>
                <a:ext cx="29336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⟨"/>
                                        <m:endChr m:val="⟩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inite size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5791320" y="2895480"/>
                <a:ext cx="939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3"/>
          <p:cNvSpPr/>
          <p:nvPr/>
        </p:nvSpPr>
        <p:spPr>
          <a:xfrm>
            <a:off x="7315560" y="31240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o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48924" b="0"/>
          <a:stretch/>
        </p:blipFill>
        <p:spPr>
          <a:xfrm>
            <a:off x="380880" y="2209680"/>
            <a:ext cx="3613320" cy="2082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50634" t="0" r="-149" b="0"/>
          <a:stretch/>
        </p:blipFill>
        <p:spPr>
          <a:xfrm>
            <a:off x="533520" y="4495680"/>
            <a:ext cx="3504960" cy="208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5826240" y="1771560"/>
                <a:ext cx="2602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7" name="Text Box 7"/>
          <p:cNvSpPr/>
          <p:nvPr/>
        </p:nvSpPr>
        <p:spPr>
          <a:xfrm>
            <a:off x="6019920" y="16765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mea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715000" y="2286000"/>
                <a:ext cx="36504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6019920" y="2209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 standard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5807160" y="3897360"/>
                <a:ext cx="1279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µ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990360" y="144792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0.1µM corresponds to 30 molecules/bacter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19720" y="47242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crease of the transcription rate and cell volume with equal factors keeps the protein level constant, but increases no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838080" y="4232160"/>
            <a:ext cx="4191120" cy="2473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685800" y="1728720"/>
            <a:ext cx="4343400" cy="2446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987480" y="914400"/>
            <a:ext cx="626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scribes the effect that an increase of the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ranslation rat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so increases the fluctu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197320" y="333684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er transcription rate and cell volu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1280" y="4648320"/>
            <a:ext cx="3903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otein level is constan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t the fluctuations are incre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(noise from mRNA level deter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e protein concentration noi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8380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Translationa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burst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low promotors increa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0" b="48039"/>
          <a:stretch/>
        </p:blipFill>
        <p:spPr>
          <a:xfrm>
            <a:off x="1219320" y="3733920"/>
            <a:ext cx="6629400" cy="279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870800" y="236232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Transcriptional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 bur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rcRect l="0" t="0" r="1473" b="0"/>
          <a:stretch/>
        </p:blipFill>
        <p:spPr>
          <a:xfrm>
            <a:off x="1143000" y="1295280"/>
            <a:ext cx="3429000" cy="1930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952520" y="1523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low promotor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5562720" y="1981080"/>
            <a:ext cx="1440" cy="3049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657600" y="3809880"/>
            <a:ext cx="2057400" cy="1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7760" y="33274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 High translat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i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952880" y="3763800"/>
            <a:ext cx="3962520" cy="3017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97680" y="17146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 equations (deterministic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1222560" cy="525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685800" y="2057400"/>
            <a:ext cx="7188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t of differential-equations (stochast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angevin equ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: concentrations, t: time, v: stoichiometric matrix, r: rates, x(t): white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562720" y="2133720"/>
            <a:ext cx="1714320" cy="54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5800" y="3581280"/>
            <a:ext cx="3886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xample isomerisation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= 1s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3024000" cy="1292040"/>
          </a:xfrm>
          <a:prstGeom prst="rect">
            <a:avLst/>
          </a:prstGeom>
          <a:ln w="0">
            <a:noFill/>
          </a:ln>
        </p:spPr>
      </p:pic>
      <p:sp>
        <p:nvSpPr>
          <p:cNvPr id="115" name="Line 9"/>
          <p:cNvSpPr/>
          <p:nvPr/>
        </p:nvSpPr>
        <p:spPr>
          <a:xfrm flipH="1">
            <a:off x="2127240" y="5181480"/>
            <a:ext cx="698400" cy="1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46480" y="48006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62320" y="5410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952880" y="346716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 for isomerisation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984240" y="6210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895480" y="6262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e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5:59:35Z</dcterms:created>
  <dc:creator>Joachim Rädler</dc:creator>
  <dc:description/>
  <dc:language>en-US</dc:language>
  <cp:lastModifiedBy>Dieter Braun</cp:lastModifiedBy>
  <cp:lastPrinted>2005-06-28T09:37:02Z</cp:lastPrinted>
  <dcterms:modified xsi:type="dcterms:W3CDTF">2024-12-02T14:09:25Z</dcterms:modified>
  <cp:revision>57</cp:revision>
  <dc:subject/>
  <dc:title>PowerPoint-Präsentation</dc:title>
</cp:coreProperties>
</file>