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1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50920" y="-360"/>
            <a:ext cx="2941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15480" y="744480"/>
            <a:ext cx="4961160" cy="3718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7988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430920"/>
            <a:ext cx="2941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50920" y="9430920"/>
            <a:ext cx="2941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33545-9BCA-4CD9-A9F0-6882F676622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5688C-E9B2-4A4C-B504-AD012A05A0E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86928-DD6C-4C37-B2AB-76DA4DB3077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82CF85-46F3-403A-AC05-159C96E3927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00CDE-32E3-4688-9C04-7716A05A731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4EA57-F53F-4DE8-8674-073F4BADBFE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D74690-4A2E-4394-B8BB-68F50986A8A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3A3B5-EC87-4159-9519-8D8BD2DEF7D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045DE-A333-4BD9-9AD3-060C6C71C03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5A5802-6555-40F4-A686-129B3B27CC9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EE21F-253B-47BB-81AB-DA5FBB2B2E4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AEDD4-921B-4F1C-8D46-51F30A27B2D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A8B60-C504-4DD1-83F9-47954BB5775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FBB28-871A-46E3-8B63-F8EF92CC58D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2D325-EF50-4289-A224-E549482E738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032FC-1632-4468-BD6E-4A50F73C440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4C8842-C595-4C84-B2B3-B462DD29025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AA62-0027-47ED-85F6-915F1DC6A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E70A-1604-4DEF-99AA-F14EC5B7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C2FD-336C-4042-87A0-B67EF9764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400C-9E0C-4EFA-A7EC-19B2F2211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0010-6E0C-4EFE-9DF2-D58C2C0B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5A8B-F7D0-4F5D-A106-C82F33F9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B43B-D903-4A40-A4D1-639DDDB4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C384-034F-49C9-B08E-A7D97AD1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480"/>
            <a:ext cx="77677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01ED-25A0-4F00-A0C2-40A1B865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C9D6-00F4-4075-8360-3B1CB4C6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4D91-1AB1-402E-9D8F-D8769448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2C05-DC44-4594-8A77-74E775A6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FE80FE-70D4-4DF2-B3F8-77224A28239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111240"/>
                <a:tab algn="l" pos="568440"/>
                <a:tab algn="l" pos="1025640"/>
                <a:tab algn="l" pos="1482840"/>
                <a:tab algn="l" pos="1940040"/>
                <a:tab algn="l" pos="2397240"/>
                <a:tab algn="l" pos="2854440"/>
                <a:tab algn="l" pos="3311640"/>
                <a:tab algn="l" pos="3768840"/>
                <a:tab algn="l" pos="4226040"/>
                <a:tab algn="l" pos="4683240"/>
                <a:tab algn="l" pos="5140440"/>
                <a:tab algn="l" pos="5597640"/>
                <a:tab algn="l" pos="6054840"/>
                <a:tab algn="l" pos="6512040"/>
                <a:tab algn="l" pos="6969240"/>
                <a:tab algn="l" pos="7426440"/>
                <a:tab algn="l" pos="7883640"/>
                <a:tab algn="l" pos="8340840"/>
                <a:tab algn="l" pos="87980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eorge Bernard Sh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elf Control is the quality that distinguishes the fittest to surviv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Time behaviour of the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lac</a:t>
            </a: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-Operon swi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358560" y="6200640"/>
            <a:ext cx="34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Vilar, J.M.G et al, J.Cell Biol. 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5943600" y="2158920"/>
            <a:ext cx="2451240" cy="2108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762120" y="2209680"/>
            <a:ext cx="2539800" cy="2121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5918040" y="4038480"/>
            <a:ext cx="2463840" cy="21337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760320" y="1568520"/>
            <a:ext cx="28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ow inductor-concentration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1508400" y="4191120"/>
            <a:ext cx="129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ime (generation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629760" y="5973840"/>
            <a:ext cx="129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ime (generation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 rot="16200000">
            <a:off x="-59760" y="3073320"/>
            <a:ext cx="121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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galactosidase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 rot="16200000">
            <a:off x="5121360" y="3148920"/>
            <a:ext cx="121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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galactosidase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 rot="16200000">
            <a:off x="5121360" y="4807800"/>
            <a:ext cx="121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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galactosidase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522360" y="4572000"/>
            <a:ext cx="492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ifferent colors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ifferent ce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lang="de-DE" sz="1800" spc="-1" strike="noStrike">
                <a:solidFill>
                  <a:srgbClr val="ff3300"/>
                </a:solidFill>
                <a:latin typeface="Times New Roman"/>
              </a:rPr>
              <a:t>Cells don´t switch synchroniz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olid line: mean value of 2000 ce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d dots: experiment (Novik, Wiener, PNAS 195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5408640" y="1523880"/>
            <a:ext cx="29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igh inductor-concentration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odel for </a:t>
            </a:r>
            <a:r>
              <a:rPr b="0" i="1" lang="de-DE" sz="4400" spc="-1" strike="noStrike">
                <a:solidFill>
                  <a:srgbClr val="000000"/>
                </a:solidFill>
                <a:latin typeface="Arial"/>
              </a:rPr>
              <a:t>lac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753000" cy="3833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5186520" y="1523880"/>
            <a:ext cx="3728880" cy="381024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4"/>
          <p:cNvSpPr/>
          <p:nvPr/>
        </p:nvSpPr>
        <p:spPr>
          <a:xfrm>
            <a:off x="4191120" y="335268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098960" y="4000680"/>
            <a:ext cx="94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luk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st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4648320" y="54864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FP: reportermolekule, Imaging via Fluoresc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=&gt; The higher the fluorescence signal, the more LacZ,Y is expres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xperimental prove of a switch with hyster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698400" y="1600200"/>
            <a:ext cx="7747200" cy="33782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457200" y="4952880"/>
            <a:ext cx="38862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tart: not  induc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fter induction appear two population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duced population: g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Not induced population: wh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4572000" y="5029200"/>
            <a:ext cx="4572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istable area (gre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rrow marks the initial condition of bacteria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tate of bacteria depends on the initial s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=&gt; Switch with hystere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6907320" y="647712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Ozbudak et al, Nature 200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odell for </a:t>
            </a:r>
            <a:r>
              <a:rPr b="0" i="1" lang="de-DE" sz="4400" spc="-1" strike="noStrike">
                <a:solidFill>
                  <a:srgbClr val="000000"/>
                </a:solidFill>
                <a:latin typeface="Arial"/>
              </a:rPr>
              <a:t>lac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2"/>
              <p:cNvSpPr txBox="1"/>
              <p:nvPr/>
            </p:nvSpPr>
            <p:spPr>
              <a:xfrm>
                <a:off x="1295280" y="1905120"/>
                <a:ext cx="2667240" cy="24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=α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+R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−</m:t>
                        </m:r>
                        <m:r>
                          <m:t xml:space="preserve">y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=βy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  <m:e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x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7" name="Text Box 3"/>
          <p:cNvSpPr/>
          <p:nvPr/>
        </p:nvSpPr>
        <p:spPr>
          <a:xfrm>
            <a:off x="4267080" y="1943280"/>
            <a:ext cx="466416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intracellular TMG concent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concentration of LacY (permease) (measured in GFP fluorescence units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concentration of active LacI (represso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total concentration La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Hill coefficient (LacI is tetrameric, but 1 TMG is sufficient to interfere with LacI activit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maximal activity level (if all repressors were inact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transport rate, TMG uptake rate per La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repression fa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half saturation concent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half saturation concent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time consta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4"/>
              <p:cNvSpPr txBox="1"/>
              <p:nvPr/>
            </p:nvSpPr>
            <p:spPr>
              <a:xfrm>
                <a:off x="4394160" y="3886200"/>
                <a:ext cx="5587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≈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5"/>
              <p:cNvSpPr txBox="1"/>
              <p:nvPr/>
            </p:nvSpPr>
            <p:spPr>
              <a:xfrm>
                <a:off x="4303800" y="5019840"/>
                <a:ext cx="136188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ρ=</m:t>
                    </m:r>
                    <m:r>
                      <m:t xml:space="preserve">1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Text Box 6"/>
          <p:cNvSpPr/>
          <p:nvPr/>
        </p:nvSpPr>
        <p:spPr>
          <a:xfrm>
            <a:off x="1206360" y="519588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teady sta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7"/>
              <p:cNvSpPr txBox="1"/>
              <p:nvPr/>
            </p:nvSpPr>
            <p:spPr>
              <a:xfrm>
                <a:off x="1371600" y="5715000"/>
                <a:ext cx="198108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=α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βy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ρ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βy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" name="Text Box 8"/>
          <p:cNvSpPr/>
          <p:nvPr/>
        </p:nvSpPr>
        <p:spPr>
          <a:xfrm>
            <a:off x="6907320" y="647712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Ozbudak et al, Nature 200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hase diagra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387360" y="1676520"/>
            <a:ext cx="4184640" cy="3946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5" name="Object 3"/>
              <p:cNvSpPr txBox="1"/>
              <p:nvPr/>
            </p:nvSpPr>
            <p:spPr>
              <a:xfrm>
                <a:off x="228600" y="6391440"/>
                <a:ext cx="136044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ρ=</m:t>
                    </m:r>
                    <m:r>
                      <m:t xml:space="preserve">1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" name="Text Box 4"/>
          <p:cNvSpPr/>
          <p:nvPr/>
        </p:nvSpPr>
        <p:spPr>
          <a:xfrm>
            <a:off x="152280" y="5519880"/>
            <a:ext cx="428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maximal activity level (if all repressors were inact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transport rate, TMG uptake rate per La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repression fa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4572000" y="1905120"/>
            <a:ext cx="43434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arge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discontinous transition from uninduced state to induced state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Phase transition of 1.O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mall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continous transition form uninduced state to induced state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Phase transition of 2.O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 wildtype bacteria, only discontinous transitions are obser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=&gt; Create a mut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6907320" y="647712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Ozbudak et al, Nature 200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hase diagra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5754600" y="485640"/>
            <a:ext cx="3122640" cy="62960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5241960" y="3124080"/>
            <a:ext cx="74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[TMG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Induc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4"/>
          <p:cNvSpPr/>
          <p:nvPr/>
        </p:nvSpPr>
        <p:spPr>
          <a:xfrm>
            <a:off x="5791320" y="3276720"/>
            <a:ext cx="30456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086160" y="3733920"/>
            <a:ext cx="20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luorescence Intensity, [LacY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838080" y="2203560"/>
            <a:ext cx="396252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owered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under Wild Type niveau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utant with additional binding sites for  LacI Repressor (b:4, c:25)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reduction of effective LacI (Repressor) concentration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reduction of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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ig c: Continous transition between uninduced and induced state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NO SWITC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Phase transition of 2.Ord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914400" y="1090440"/>
            <a:ext cx="6934320" cy="57675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2"/>
          <p:cNvSpPr/>
          <p:nvPr/>
        </p:nvSpPr>
        <p:spPr>
          <a:xfrm>
            <a:off x="304920" y="45720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ynamics of switch behavior: comparison of experiment (grey bars) and stochastic simulation (r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1"/>
          <p:cNvGrpSpPr/>
          <p:nvPr/>
        </p:nvGrpSpPr>
        <p:grpSpPr>
          <a:xfrm>
            <a:off x="1219320" y="1828800"/>
            <a:ext cx="6777000" cy="4824360"/>
            <a:chOff x="1219320" y="1828800"/>
            <a:chExt cx="6777000" cy="4824360"/>
          </a:xfrm>
        </p:grpSpPr>
        <p:pic>
          <p:nvPicPr>
            <p:cNvPr id="54" name="Picture 2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008760" cy="461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Rectangle 3"/>
            <p:cNvSpPr/>
            <p:nvPr/>
          </p:nvSpPr>
          <p:spPr>
            <a:xfrm>
              <a:off x="1219320" y="3914640"/>
              <a:ext cx="6777000" cy="273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ore genetic switch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066680" y="466416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n-Regulation with feedback makes a swi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Robuste“ vs. „ultrasensitive“ Swi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"/>
          <p:cNvGrpSpPr/>
          <p:nvPr/>
        </p:nvGrpSpPr>
        <p:grpSpPr>
          <a:xfrm>
            <a:off x="914400" y="1600200"/>
            <a:ext cx="3652920" cy="4675320"/>
            <a:chOff x="914400" y="1600200"/>
            <a:chExt cx="3652920" cy="4675320"/>
          </a:xfrm>
        </p:grpSpPr>
        <p:pic>
          <p:nvPicPr>
            <p:cNvPr id="60" name="Picture 3" descr=""/>
            <p:cNvPicPr/>
            <p:nvPr/>
          </p:nvPicPr>
          <p:blipFill>
            <a:blip r:embed="rId1"/>
            <a:stretch/>
          </p:blipFill>
          <p:spPr>
            <a:xfrm>
              <a:off x="990720" y="1600200"/>
              <a:ext cx="3525840" cy="464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4" descr=""/>
            <p:cNvPicPr/>
            <p:nvPr/>
          </p:nvPicPr>
          <p:blipFill>
            <a:blip r:embed="rId2"/>
            <a:stretch/>
          </p:blipFill>
          <p:spPr>
            <a:xfrm>
              <a:off x="914400" y="4724280"/>
              <a:ext cx="3652920" cy="155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Text Box 5"/>
          <p:cNvSpPr/>
          <p:nvPr/>
        </p:nvSpPr>
        <p:spPr>
          <a:xfrm>
            <a:off x="4572000" y="1981080"/>
            <a:ext cx="434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ple networks with positive feed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Without hysteres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Ultrasensitive switch, noise induced switc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838080" y="3200400"/>
            <a:ext cx="20574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" name="Group 7"/>
          <p:cNvGrpSpPr/>
          <p:nvPr/>
        </p:nvGrpSpPr>
        <p:grpSpPr>
          <a:xfrm>
            <a:off x="990720" y="3124080"/>
            <a:ext cx="7767360" cy="3119400"/>
            <a:chOff x="990720" y="3124080"/>
            <a:chExt cx="7767360" cy="3119400"/>
          </a:xfrm>
        </p:grpSpPr>
        <p:sp>
          <p:nvSpPr>
            <p:cNvPr id="65" name="Text Box 8"/>
            <p:cNvSpPr/>
            <p:nvPr/>
          </p:nvSpPr>
          <p:spPr>
            <a:xfrm>
              <a:off x="4648320" y="3962520"/>
              <a:ext cx="4109760" cy="16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With hysteresi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Robust against noise (concentration of A stays down if it was down at the beginning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6" name="Picture 9" descr=""/>
            <p:cNvPicPr/>
            <p:nvPr/>
          </p:nvPicPr>
          <p:blipFill>
            <a:blip r:embed="rId3"/>
            <a:stretch/>
          </p:blipFill>
          <p:spPr>
            <a:xfrm>
              <a:off x="990720" y="3124080"/>
              <a:ext cx="1901880" cy="3119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rcRect l="3701" t="4731" r="3701" b="0"/>
          <a:stretch/>
        </p:blipFill>
        <p:spPr>
          <a:xfrm>
            <a:off x="533520" y="2362320"/>
            <a:ext cx="3809880" cy="3066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rcRect l="3570" t="0" r="3570" b="0"/>
          <a:stretch/>
        </p:blipFill>
        <p:spPr>
          <a:xfrm>
            <a:off x="4724280" y="2286000"/>
            <a:ext cx="3962520" cy="31766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447920" y="1905120"/>
            <a:ext cx="28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mory-less swi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791320" y="19051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istable swi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7156080" y="304812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2400" spc="-1" strike="noStrike">
                <a:solidFill>
                  <a:srgbClr val="ff0000"/>
                </a:solidFill>
                <a:latin typeface="Times New Roman"/>
              </a:rPr>
              <a:t>Hyster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762120" y="556092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without Hysteres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Ultrasensitive switch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Noise induced switc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906480" y="914400"/>
            <a:ext cx="56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 simple switch with psoitive feedback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4876920" y="551484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With hysteres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obust against noise (concentration of a stays low, if initial concentration is low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obust switches/Hyster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534160" cy="42069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2"/>
          <p:cNvSpPr/>
          <p:nvPr/>
        </p:nvSpPr>
        <p:spPr>
          <a:xfrm>
            <a:off x="5672160" y="6049800"/>
            <a:ext cx="18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LMU CompatilFact"/>
              </a:rPr>
              <a:t>from: Kaern et al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LMU CompatilFact"/>
              </a:rPr>
              <a:t>Nature Review 200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Bistabile Behavi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456840" y="1371600"/>
            <a:ext cx="461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sitive feedback loops lead to bistable switch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3319200" cy="2232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179280" y="3429000"/>
            <a:ext cx="3456000" cy="2352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4140360" y="4365720"/>
            <a:ext cx="4248000" cy="19238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4140360" y="1341360"/>
            <a:ext cx="4464000" cy="29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tein 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key regul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ve when present as a multime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ultimerization =&gt; nonlinear dynamics of the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duction of A, f(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                        described by Hill-type fun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activation rate,                           described by a linear-type function, f(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Bistable genetic Swi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operties of the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Lac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rcRect l="0" t="0" r="0" b="47447"/>
          <a:stretch/>
        </p:blipFill>
        <p:spPr>
          <a:xfrm>
            <a:off x="0" y="2438280"/>
            <a:ext cx="4568760" cy="3657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rcRect l="0" t="51463" r="0" b="0"/>
          <a:stretch/>
        </p:blipFill>
        <p:spPr>
          <a:xfrm>
            <a:off x="4876920" y="2362320"/>
            <a:ext cx="3882960" cy="28717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228960" y="1649520"/>
            <a:ext cx="377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Times New Roman"/>
              </a:rPr>
              <a:t>Induction of the lac synthesis is 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Times New Roman"/>
              </a:rPr>
              <a:t>all-or-nothing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5029200" y="152388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Times New Roman"/>
              </a:rPr>
              <a:t>Properties of genetic networks can 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Times New Roman"/>
              </a:rPr>
              <a:t>inheriti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6094440" y="5257800"/>
            <a:ext cx="24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Novick &amp; Weiner 19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1487520" y="2590920"/>
            <a:ext cx="6513480" cy="27032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n-Regulation with Feedback:</a:t>
            </a:r>
            <a:br>
              <a:rPr sz="3200"/>
            </a:b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lac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Ope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2462040" y="342900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ac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800600" y="2743200"/>
            <a:ext cx="105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PTG, TM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he Lactose degradation pathway</a:t>
            </a:r>
            <a:br>
              <a:rPr sz="3200"/>
            </a:b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 hierarchic conside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701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304920" y="2552760"/>
            <a:ext cx="8839080" cy="36194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457200" y="1905120"/>
            <a:ext cx="31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lecular inter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943240" y="1676520"/>
            <a:ext cx="25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ellular ne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2708280" y="6172200"/>
            <a:ext cx="50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terogenity in population dyna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22:07:27Z</dcterms:created>
  <dc:creator>Joachim Rädler</dc:creator>
  <dc:description/>
  <dc:language>en-US</dc:language>
  <cp:lastModifiedBy>Dieter Braun</cp:lastModifiedBy>
  <dcterms:modified xsi:type="dcterms:W3CDTF">2024-12-02T13:06:09Z</dcterms:modified>
  <cp:revision>16</cp:revision>
  <dc:subject/>
  <dc:title>PowerPoint-Präsentation</dc:title>
</cp:coreProperties>
</file>