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16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605C1-3999-4BBD-AC91-7B7ABF94A2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9831-2EEC-409F-BD93-59832E94A0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BD9B7-942F-46E2-A1AF-D7C0417385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0FABD-68FC-4F93-86E0-15E812DF16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A8E80-2903-408D-8CA8-3D860DB37D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B39DE-A4C2-480D-B497-31CA43CF3D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E1569-67A8-4485-A906-9B02EBAAB3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trinsis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Maß für die Abweichung zweier identischer Gene unter gleichen intrazellulären Bedingung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50D82-D002-46E2-AB2A-048C04D8D4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CC651-3110-455C-99C8-883E7F62F2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6208B-C20B-4F2F-9152-8DDA66BA917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CE02C-1417-4EC7-ABB0-5EEBFFFCDE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994C2-10E4-4E72-9B21-E8661F48FF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EE7F9-1FFD-4E04-8E8B-7629DB2B3A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C9EC8-AE32-4F8A-8F01-6A8E88D1D12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3ACAA-9485-4659-A497-F166AB192C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F81AE-51B1-4629-8DB3-21CE818ED1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1CD24-835E-4240-BC84-10B8E6910A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975-1634-41C2-A18D-9854727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240-FBF2-452C-B782-6C97649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75B-03FB-4F23-93A9-7CFC19D0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C3C-642B-4B00-A6C3-A930E448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44D-2571-41A6-9158-E9E7D83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924-9BA9-4AFC-802F-622198D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126-8868-48C3-822C-5DE5256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DC5-6688-4CC2-AB6D-880B1A4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917-0AFE-4DF0-9DF1-55A1431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0CC-76B3-4935-BD75-1E5F5CF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7A7-184A-460A-A343-6CD4947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AA8-5287-4A0A-A071-90EE98C6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5F25-CEDD-4994-89D4-EC3AD1237A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657600" y="914400"/>
            <a:ext cx="31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Times New Roman"/>
              </a:rPr>
              <a:t>What is lif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403848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1. How can „biological order“ (life) be explaind by the basic laws of phys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2. How does life deal with the statistic nature of molecular inter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... wenn wir so empfindliche Organismen wären, daß ein einzelnes Atom oder meinet-wegen ein paar Atome einen wahrnehmbaren Eindruck auf unsere Sinnesorgane machen könnten - du lieber Himmel, wie sähe das Leben dann aus!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44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657600" y="17524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hrödinger considered 1943 the consequences of the molecular nature of the genetic code in a lecture about „Physics and biolog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periment: stochastisc Gen-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48320" y="2117880"/>
            <a:ext cx="4267080" cy="3558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2860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stinguish between „intrinsic noise“ (gene expression) and „extrinsic noise“(variations of other cell components such as RNA polymer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 for an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 for CFP (green fluorescent protein) und YFP (yellow fluorescent protein, shown in red) are controlled by the same promotor, hence the mean concentration of CFP and YFP is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Expression probability should di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nly due to intrinsic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76920" y="5791320"/>
            <a:ext cx="4114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: no  intrinsic noise =&gt; noise is correlated red+green=yel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: intrinsic noise =&gt; noise not correlated, different col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5740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07040" y="220968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o distinguishable genes (CFP and YFP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led by the same pr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724280" y="3352680"/>
          <a:ext cx="4114800" cy="19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41148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"/>
          <p:cNvSpPr/>
          <p:nvPr/>
        </p:nvSpPr>
        <p:spPr>
          <a:xfrm>
            <a:off x="4648320" y="540216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low fluoresc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81680" y="540864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high fluoresc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791320" y="12952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, M. et al,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sche Genexpress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einer einzelnen Z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267440" cy="332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6130800" y="15368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5943600" y="1447920"/>
                <a:ext cx="93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715000" y="5562720"/>
                <a:ext cx="2209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562720" y="3397320"/>
            <a:ext cx="17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1828800" cy="960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723924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457200" y="3056040"/>
            <a:ext cx="3886200" cy="33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80880" y="234648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inherent stochasticity with identical external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58436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x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ell to cell variance of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562720" y="1371600"/>
            <a:ext cx="3047760" cy="990720"/>
          </a:xfrm>
          <a:prstGeom prst="rect">
            <a:avLst/>
          </a:prstGeom>
          <a:noFill/>
          <a:ln cap="sq" w="2844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c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43600" cy="520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257800" y="632448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 et al.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„intrinsisc noise“ decreases with increasing protein concentrati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due to decreased promotor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00800" cy="439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477120" y="4495680"/>
                <a:ext cx="1981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28195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" y="488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importance of statistical fluctuations in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a fluctuating environment, heterogeneous cell populations have better chances to grow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ontrol of lac.operon, immune system, lysis-networks of lambda-ph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versification in isogene phenotypes und celltyp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stem cell divers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ciency increase in signal transduc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hemotaxis regulation or stochastic resonance (ear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1752480"/>
            <a:ext cx="69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increased with „positive feedback loops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14400" y="6134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bilisation  of metabolics / homeos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38440" y="534996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decreased via „negative feedback loop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iochemical noise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uctuation of prote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724280" y="20527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numbers of copies of many components e.g. Polymerases, regolatory proteins,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tochastic effects in gene expression play an important role for variations of protein concentrations of bacteria with identical g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ymetries emerge, which are amplified by feedback loops and influence the development of the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114800" cy="351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09480" y="190512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 the express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185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terministic model of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rcRect l="0" t="21802" r="0" b="0"/>
          <a:stretch/>
        </p:blipFill>
        <p:spPr>
          <a:xfrm>
            <a:off x="152280" y="3121200"/>
            <a:ext cx="8763120" cy="32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038840" cy="27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8080" y="64753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rom JJ Collins, Nature Reviews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s for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3829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209680" y="2209680"/>
                <a:ext cx="1849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762120" y="4548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5440" y="34131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69600" y="609588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amplitude decreases with increa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mber of partic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550080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: number of data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663240" y="6477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Rao, Wolf,Arkin, Natur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732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2286000" y="3200400"/>
                <a:ext cx="21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Pr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e>
                    </m:d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+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1"/>
              <p:cNvSpPr txBox="1"/>
              <p:nvPr/>
            </p:nvSpPr>
            <p:spPr>
              <a:xfrm>
                <a:off x="2362320" y="4335480"/>
                <a:ext cx="2933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inite size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5791320" y="2895480"/>
                <a:ext cx="939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3"/>
          <p:cNvSpPr/>
          <p:nvPr/>
        </p:nvSpPr>
        <p:spPr>
          <a:xfrm>
            <a:off x="7315560" y="3124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8924" b="0"/>
          <a:stretch/>
        </p:blipFill>
        <p:spPr>
          <a:xfrm>
            <a:off x="380880" y="2209680"/>
            <a:ext cx="361332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50634" t="0" r="-149" b="0"/>
          <a:stretch/>
        </p:blipFill>
        <p:spPr>
          <a:xfrm>
            <a:off x="533520" y="4495680"/>
            <a:ext cx="3504960" cy="208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5826240" y="1771560"/>
                <a:ext cx="260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Text Box 7"/>
          <p:cNvSpPr/>
          <p:nvPr/>
        </p:nvSpPr>
        <p:spPr>
          <a:xfrm>
            <a:off x="6019920" y="1676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ea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715000" y="2286000"/>
                <a:ext cx="3650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6019920" y="2209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807160" y="3897360"/>
                <a:ext cx="1279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µ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990360" y="144792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µM corresponds to 30 molecules/bac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19720" y="47242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crease of the transcription rate and cell volume with equal factors keeps the protein level constant, but increases 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38080" y="4232160"/>
            <a:ext cx="4191120" cy="247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685800" y="1728720"/>
            <a:ext cx="4343400" cy="2446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87480" y="91440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scribes the effect that an increase of 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ranslation rat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so increases the fluct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97320" y="333684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r transcription rate and cell volu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1280" y="4648320"/>
            <a:ext cx="390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tein level is consta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 fluctuations are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noise from mRNA level deter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protein concentration no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380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ranslationa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burst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low promotors increa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0" b="48039"/>
          <a:stretch/>
        </p:blipFill>
        <p:spPr>
          <a:xfrm>
            <a:off x="1219320" y="3733920"/>
            <a:ext cx="6629400" cy="279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870800" y="23623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ranscriptiona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ur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1143000" y="1295280"/>
            <a:ext cx="342900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952520" y="1523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 promotor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562720" y="1981080"/>
            <a:ext cx="1440" cy="3049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657600" y="3809880"/>
            <a:ext cx="2057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7760" y="33274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 High translat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i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952880" y="3763800"/>
            <a:ext cx="39625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97680" y="17146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 equations (deterministic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2256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5800" y="2057400"/>
            <a:ext cx="718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-equations (stochas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ngevin 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: concentrations, t: time, v: stoichiometric matrix, r: rates, x(t): 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562720" y="2133720"/>
            <a:ext cx="171432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5800" y="3581280"/>
            <a:ext cx="3886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ample isomerisa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1s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024000" cy="1292040"/>
          </a:xfrm>
          <a:prstGeom prst="rect">
            <a:avLst/>
          </a:prstGeom>
          <a:ln w="0">
            <a:noFill/>
          </a:ln>
        </p:spPr>
      </p:pic>
      <p:sp>
        <p:nvSpPr>
          <p:cNvPr id="115" name="Line 9"/>
          <p:cNvSpPr/>
          <p:nvPr/>
        </p:nvSpPr>
        <p:spPr>
          <a:xfrm flipH="1">
            <a:off x="2127240" y="5181480"/>
            <a:ext cx="698400" cy="1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46480" y="48006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62320" y="5410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952880" y="34671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 for isomeris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984240" y="6210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95480" y="6262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5:59:35Z</dcterms:created>
  <dc:creator>Joachim Rädler</dc:creator>
  <dc:description/>
  <dc:language>en-US</dc:language>
  <cp:lastModifiedBy>Dieter Braun</cp:lastModifiedBy>
  <cp:lastPrinted>2005-06-28T09:37:02Z</cp:lastPrinted>
  <dcterms:modified xsi:type="dcterms:W3CDTF">2024-12-02T14:09:25Z</dcterms:modified>
  <cp:revision>57</cp:revision>
  <dc:subject/>
  <dc:title>PowerPoint-Präsentation</dc:title>
</cp:coreProperties>
</file>