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1160" cy="371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9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0F34B-EBFE-4984-8B5C-32E6E65D73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7B901-D113-4680-89B5-3417FE1A01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73E9F-DD6A-4CF9-A678-53E704CE83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426A5-532A-4884-BCB5-CC019D8E40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C5DA-5FB8-4560-AFB4-3F857E620E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4289A-7F2F-4069-9CD1-7E1BB520FD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CEB44-55C3-47F4-827F-7B973E912C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8A575-00EC-416A-AEB4-1F0735CE07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43FC8-DD62-416B-85C8-CA268F0262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FEA7A-C9CF-4E83-82EF-7AA48A597A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E4310-9EE3-4122-80DB-3E7DA615D24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EE819-146D-43DA-AF55-259FCF01F6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EAC88-78FD-49E2-9420-19C20C88B6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5C1C2-2AEA-49F0-A17C-A10D79FDFD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BC204-2542-40D0-AF12-665984D339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8C046-9688-41DB-ABCD-1851A3EB1A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FF533-2CE0-4D8C-8C62-B58D7A94A2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AD5-4170-4214-9E10-EED75CAA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5EB-BBEA-48CB-8434-479966F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B3D-E10A-4A21-A536-31A1E720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8A6-A751-4D5E-A29F-918AE34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502-9331-43CB-AEAB-32208D1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DE6-BFB2-43D7-9DB9-85E1BEF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0CE-EC68-4868-BFA2-097172E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7A4-0CA0-4149-A9A5-957E4F4F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546-F506-40D6-A12F-18110E9B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31F-CB97-4D1B-B349-044F95B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78E-ED82-47A5-8E31-98BDCF5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6A8-0F65-497C-BDB0-3CB696D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A47D3-9399-432D-AB3E-AB9A1743FAC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rge Bernard 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lf Control is the quality that distinguishes the fittest to surv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me behaviour of the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Operon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8560" y="620064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lar, J.M.G et al, J.Cell Biol.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943600" y="2158920"/>
            <a:ext cx="2451240" cy="210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39800" cy="212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918040" y="4038480"/>
            <a:ext cx="246384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0320" y="15685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08400" y="4191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629760" y="597384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 rot="16200000">
            <a:off x="-59760" y="30733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 rot="16200000">
            <a:off x="5121360" y="31489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rot="16200000">
            <a:off x="5121360" y="48078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22360" y="457200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olor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de-DE" sz="1800" spc="-1" strike="noStrike">
                <a:solidFill>
                  <a:srgbClr val="ff3300"/>
                </a:solidFill>
                <a:latin typeface="Times New Roman"/>
              </a:rPr>
              <a:t>Cells don´t switch synchroniz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id line: mean value of 2000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 dots: experiment (Novik, Wiener, PNAS 19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408640" y="15238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53000" cy="383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186520" y="1523880"/>
            <a:ext cx="3728880" cy="38102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4191120" y="335268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98960" y="400068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luk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48320" y="5486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FP: reportermolekule, Imaging via 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The higher the fluorescence signal, the more LacZ,Y is ex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al prove of a switch with 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98400" y="1600200"/>
            <a:ext cx="7747200" cy="337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57200" y="495288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rt: not  in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fter induction appear two popula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duced population: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t induced population: 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0" y="50292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istable area (gr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row marks the initial condition of bacter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of bacteria depends on the initial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Switch with hyster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1295280" y="1905120"/>
                <a:ext cx="266724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+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β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3"/>
          <p:cNvSpPr/>
          <p:nvPr/>
        </p:nvSpPr>
        <p:spPr>
          <a:xfrm>
            <a:off x="4267080" y="1943280"/>
            <a:ext cx="46641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intracellular TMG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LacY (permease) (measured in GFP fluorescence uni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active LacI (repres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otal concentration L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ill coefficient (LacI is tetrameric, but 1 TMG is sufficient to interfere with LacI activ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ime cons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394160" y="388620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4303800" y="5019840"/>
                <a:ext cx="13618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1206360" y="5195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ady s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371600" y="5715000"/>
                <a:ext cx="1981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α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4184640" cy="394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228600" y="6391440"/>
                <a:ext cx="1360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4"/>
          <p:cNvSpPr/>
          <p:nvPr/>
        </p:nvSpPr>
        <p:spPr>
          <a:xfrm>
            <a:off x="152280" y="551988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0" y="1905120"/>
            <a:ext cx="4343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discontinous transition from uninduced state to induced stat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1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tinous transition form uninduced state to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2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wildtype bacteria, only discontinous transitions are ob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Create a mu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754600" y="485640"/>
            <a:ext cx="3122640" cy="62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241960" y="3124080"/>
            <a:ext cx="74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TMG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nduc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791320" y="3276720"/>
            <a:ext cx="3045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86160" y="37339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uorescence Intensity, [LacY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38080" y="2203560"/>
            <a:ext cx="3962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ere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nder Wild Type niveau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nt with additional binding sites for  LacI Repressor (b:4, c:25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 effective LacI (Repressor) concentr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g c: Continous transition between uninduced and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 SWITC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Phase transition of 2.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914400" y="1090440"/>
            <a:ext cx="6934320" cy="5767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4920" y="457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cs of switch behavior: comparison of experiment (grey bars) and stochastic simulation (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219320" y="1828800"/>
            <a:ext cx="6777000" cy="4824360"/>
            <a:chOff x="1219320" y="1828800"/>
            <a:chExt cx="6777000" cy="4824360"/>
          </a:xfrm>
        </p:grpSpPr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008760" cy="46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"/>
            <p:cNvSpPr/>
            <p:nvPr/>
          </p:nvSpPr>
          <p:spPr>
            <a:xfrm>
              <a:off x="1219320" y="3914640"/>
              <a:ext cx="6777000" cy="27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genetic swi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46641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-Regulation with feedback makes a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obuste“ vs. „ultrasensitive“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914400" y="1600200"/>
            <a:ext cx="3652920" cy="4675320"/>
            <a:chOff x="914400" y="1600200"/>
            <a:chExt cx="3652920" cy="467532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3525840" cy="46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914400" y="4724280"/>
              <a:ext cx="36529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5"/>
          <p:cNvSpPr/>
          <p:nvPr/>
        </p:nvSpPr>
        <p:spPr>
          <a:xfrm>
            <a:off x="4572000" y="198108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ple networks with posi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8080" y="3200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990720" y="3124080"/>
            <a:ext cx="7767360" cy="3119400"/>
            <a:chOff x="990720" y="3124080"/>
            <a:chExt cx="7767360" cy="3119400"/>
          </a:xfrm>
        </p:grpSpPr>
        <p:sp>
          <p:nvSpPr>
            <p:cNvPr id="65" name="Text Box 8"/>
            <p:cNvSpPr/>
            <p:nvPr/>
          </p:nvSpPr>
          <p:spPr>
            <a:xfrm>
              <a:off x="4648320" y="3962520"/>
              <a:ext cx="4109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ith hysteres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obust against noise (concentration of A stays down if it was down at the beginn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"/>
            <p:cNvPicPr/>
            <p:nvPr/>
          </p:nvPicPr>
          <p:blipFill>
            <a:blip r:embed="rId3"/>
            <a:stretch/>
          </p:blipFill>
          <p:spPr>
            <a:xfrm>
              <a:off x="990720" y="3124080"/>
              <a:ext cx="1901880" cy="3119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rcRect l="3701" t="4731" r="3701" b="0"/>
          <a:stretch/>
        </p:blipFill>
        <p:spPr>
          <a:xfrm>
            <a:off x="533520" y="2362320"/>
            <a:ext cx="3809880" cy="30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rcRect l="3570" t="0" r="3570" b="0"/>
          <a:stretch/>
        </p:blipFill>
        <p:spPr>
          <a:xfrm>
            <a:off x="4724280" y="228600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47920" y="19051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ory-less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79132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table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56080" y="3048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62120" y="556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06480" y="91440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imple switch with psoiti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876920" y="5514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bust against noise (concentration of a stays low, if initial concentration is 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 switches/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672160" y="6049800"/>
            <a:ext cx="18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from: Kaern et 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Nature Review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ile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6840" y="1371600"/>
            <a:ext cx="461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itive feedback loops lead to bistable switch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920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4248000" cy="1923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140360" y="1341360"/>
            <a:ext cx="446400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in 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key reg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when present as a multim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merization =&gt; nonlinear dynamic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ction of A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                     described by Hill-type fun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ctivation rate,                           described by a linear-type function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le genetic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perties of the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7447"/>
          <a:stretch/>
        </p:blipFill>
        <p:spPr>
          <a:xfrm>
            <a:off x="0" y="2438280"/>
            <a:ext cx="4568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0" t="51463" r="0" b="0"/>
          <a:stretch/>
        </p:blipFill>
        <p:spPr>
          <a:xfrm>
            <a:off x="4876920" y="2362320"/>
            <a:ext cx="3882960" cy="28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28960" y="164952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duction of the lac synthesis is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all-or-noth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Properties of genetic networks can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herit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440" y="5257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ovick &amp; Weiner 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487520" y="2590920"/>
            <a:ext cx="6513480" cy="270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-Regulation with Feedback: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Op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462040" y="3429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c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00600" y="2743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TG, T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Lactose degradation pathway</a:t>
            </a:r>
            <a:br>
              <a:rPr sz="32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hierarchic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01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88390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57200" y="1905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lecular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43240" y="16765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08280" y="6172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terogenity in population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2:07:27Z</dcterms:created>
  <dc:creator>Joachim Rädler</dc:creator>
  <dc:description/>
  <dc:language>en-US</dc:language>
  <cp:lastModifiedBy>Dieter Braun</cp:lastModifiedBy>
  <dcterms:modified xsi:type="dcterms:W3CDTF">2024-12-02T13:06:09Z</dcterms:modified>
  <cp:revision>16</cp:revision>
  <dc:subject/>
  <dc:title>PowerPoint-Präsentation</dc:title>
</cp:coreProperties>
</file>