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16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43092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0920" y="943092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A8C81-CA56-4B53-96BC-909F3C6142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1DBF9-5A8B-415A-8403-2BDCF2EA00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B0D94-FC12-456B-A1B2-C53EBC869D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A2C15-6D4B-416D-B150-B6EA4F1EF9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182B1-23CD-46BE-BE4E-5CBFF546D2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Text Box 6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2C2EC-704C-4E3F-9430-FB6A8A371F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45A2A-DAFE-4690-8215-6379F8C76C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Text Box 6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trinsis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Maß für die Abweichung zweier identischer Gene unter gleichen intrazellulären Bedingung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2C4ED-33E6-4F2F-B2FE-F0547EEC465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40D85-E847-4C3B-8EEF-95D6F37FBE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3A27A-BFC3-4199-A396-D77E0E4A7E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27D16-DB4D-4757-90B6-A2186A231C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CF01B-9A7C-4533-AF43-E9B1E7E993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11A7C-CDEF-483A-B320-319DF41EE1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ED3B7-A790-43B3-8070-9CCB0C1E34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A8644-3C48-4584-BBCA-A64674C0784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F8D9C-2FEC-4826-8174-DA0528C6E3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43972-D710-4F55-97E9-5E2B8781B1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BD1-DFB8-4D38-A9FF-50342958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DB1-57FB-46CA-8BBB-D390DDD1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9D9-D37B-4EDD-97B1-FAB79636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EA3-B687-4FD1-BCF7-46FD0377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27F-9C11-4734-89A6-25B89D51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E1C-2166-417C-B231-C7D640EE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9F8-C9D4-44EB-9BE3-1DB8E53A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05E-5C46-4BCB-A6F5-3AB4238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8CD-010C-44CF-BA5D-65166C6A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89F-5901-421C-BA6C-22AEDD02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F0F-D782-444A-A982-A5B6E364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3AF-3EF9-440A-9635-D28B1922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80BB3-116F-4608-B90F-BAEE5D98242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657600" y="914400"/>
            <a:ext cx="31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4400" spc="-1" strike="noStrike">
                <a:solidFill>
                  <a:srgbClr val="ff0000"/>
                </a:solidFill>
                <a:latin typeface="Times New Roman"/>
              </a:rPr>
              <a:t>What is lif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4038480"/>
            <a:ext cx="8458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1. How can „biological order“ (life) be explaind by the basic laws of phys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2. How does life deal with the statistic nature of molecular intera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... wenn wir so empfindliche Organismen wären, daß ein einzelnes Atom oder meinet-wegen ein paar Atome einen wahrnehmbaren Eindruck auf unsere Sinnesorgane machen könnten - du lieber Himmel, wie sähe das Leben dann aus!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2446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657600" y="17524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Schrödinger considered 1943 the consequences of the molecular nature of the genetic code in a lecture about „Physics and biology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xperiment: stochastisc Gen-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48320" y="2117880"/>
            <a:ext cx="4267080" cy="3558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28600" y="175248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stinguish between „intrinsic noise“ (gene expression) and „extrinsic noise“(variations of other cell components such as RNA polymer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a for an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 for CFP (green fluorescent protein) und YFP (yellow fluorescent protein, shown in red) are controlled by the same promotor, hence the mean concentration of CFP and YFP is eq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Expression probability should di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nly due to intrinsic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76920" y="5791320"/>
            <a:ext cx="4114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: no  intrinsic noise =&gt; noise is correlated red+green=yel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: intrinsic noise =&gt; noise not correlated, different col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680520" y="647712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Elowitz, M. et al, Scienc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857400" cy="3009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819160" cy="1981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407040" y="220968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wo distinguishable genes (CFP and YFP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led by the same promo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4724280" y="3352680"/>
          <a:ext cx="4114800" cy="199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52680"/>
                    <a:ext cx="41148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5"/>
          <p:cNvSpPr/>
          <p:nvPr/>
        </p:nvSpPr>
        <p:spPr>
          <a:xfrm>
            <a:off x="4648320" y="540216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indu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low fluoresc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781680" y="5408640"/>
            <a:ext cx="18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induc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high fluoresce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791320" y="129528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Elowitz, M. et al,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ochastische Genexpressio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 einer einzelnen Z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4267440" cy="3329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6130800" y="15368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5943600" y="1447920"/>
                <a:ext cx="939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5715000" y="5562720"/>
                <a:ext cx="2209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=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+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5562720" y="3397320"/>
            <a:ext cx="17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1828800" cy="960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723924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o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4"/>
          <a:stretch/>
        </p:blipFill>
        <p:spPr>
          <a:xfrm>
            <a:off x="457200" y="3056040"/>
            <a:ext cx="3886200" cy="3355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380880" y="2346480"/>
            <a:ext cx="717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trinsic noise: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inherent stochasticity with identical external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584360"/>
            <a:ext cx="717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xtrinsic noise: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ell to cell variance of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562720" y="1371600"/>
            <a:ext cx="3047760" cy="990720"/>
          </a:xfrm>
          <a:prstGeom prst="rect">
            <a:avLst/>
          </a:prstGeom>
          <a:noFill/>
          <a:ln cap="sq" w="2844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ochastic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43600" cy="5202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"/>
          <p:cNvSpPr/>
          <p:nvPr/>
        </p:nvSpPr>
        <p:spPr>
          <a:xfrm>
            <a:off x="5257800" y="632448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Elowitz et al.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„intrinsisc noise“ decreases with increasing protein concentratio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(due to decreased promotor no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680520" y="647712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Elowitz, M. et al, Scienc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400800" cy="4397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477120" y="4495680"/>
                <a:ext cx="19810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=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+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281952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" y="4888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importance of statistical fluctuations in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a fluctuating environment, heterogeneous cell populations have better chances to grow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control of lac.operon, immune system, lysis-networks of lambda-ph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versification in isogene phenotypes und celltyp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stem cell divers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fficiency increase in signal transduc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chemotaxis regulation or stochastic resonance (ear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2120" y="1752480"/>
            <a:ext cx="69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ise can be increased with „positive feedback loops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th 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914400" y="6134040"/>
            <a:ext cx="7772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bilisation  of metabolics / homeost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38440" y="5349960"/>
            <a:ext cx="67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ise can be decreased via „negative feedback loops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iochemical noise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luctuation of protein concen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724280" y="20527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ll numbers of copies of many components e.g. Polymerases, regolatory proteins,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Stochastic effects in gene expression play an important role for variations of protein concentrations of bacteria with identical ge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symetries emerge, which are amplified by feedback loops and influence the development of the c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114800" cy="351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09480" y="190512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in the express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1855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terministic model of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rcRect l="0" t="21802" r="0" b="0"/>
          <a:stretch/>
        </p:blipFill>
        <p:spPr>
          <a:xfrm>
            <a:off x="152280" y="3121200"/>
            <a:ext cx="8763120" cy="327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038840" cy="27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248080" y="647532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from JJ Collins, Nature Reviews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s for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33829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2209680" y="2209680"/>
                <a:ext cx="1849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762120" y="45482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85440" y="34131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69600" y="609588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amplitude decreases with increa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mber of particl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62120" y="550080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: number of data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663240" y="647712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Rao, Wolf,Arkin, Natur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73200" y="2438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0"/>
              <p:cNvSpPr txBox="1"/>
              <p:nvPr/>
            </p:nvSpPr>
            <p:spPr>
              <a:xfrm>
                <a:off x="2286000" y="3200400"/>
                <a:ext cx="216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Pr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e>
                    </m:d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+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1"/>
              <p:cNvSpPr txBox="1"/>
              <p:nvPr/>
            </p:nvSpPr>
            <p:spPr>
              <a:xfrm>
                <a:off x="2362320" y="4335480"/>
                <a:ext cx="2933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inite size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"/>
              <p:cNvSpPr txBox="1"/>
              <p:nvPr/>
            </p:nvSpPr>
            <p:spPr>
              <a:xfrm>
                <a:off x="5791320" y="2895480"/>
                <a:ext cx="939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3"/>
          <p:cNvSpPr/>
          <p:nvPr/>
        </p:nvSpPr>
        <p:spPr>
          <a:xfrm>
            <a:off x="7315560" y="3124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o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8924" b="0"/>
          <a:stretch/>
        </p:blipFill>
        <p:spPr>
          <a:xfrm>
            <a:off x="380880" y="2209680"/>
            <a:ext cx="3613320" cy="208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rcRect l="50634" t="0" r="-149" b="0"/>
          <a:stretch/>
        </p:blipFill>
        <p:spPr>
          <a:xfrm>
            <a:off x="533520" y="4495680"/>
            <a:ext cx="3504960" cy="208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5826240" y="1771560"/>
                <a:ext cx="260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7" name="Text Box 7"/>
          <p:cNvSpPr/>
          <p:nvPr/>
        </p:nvSpPr>
        <p:spPr>
          <a:xfrm>
            <a:off x="6019920" y="16765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mean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715000" y="2286000"/>
                <a:ext cx="3650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Rectangle 9"/>
          <p:cNvSpPr/>
          <p:nvPr/>
        </p:nvSpPr>
        <p:spPr>
          <a:xfrm>
            <a:off x="6019920" y="2209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standard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5807160" y="3897360"/>
                <a:ext cx="1279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µ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11"/>
          <p:cNvSpPr/>
          <p:nvPr/>
        </p:nvSpPr>
        <p:spPr>
          <a:xfrm>
            <a:off x="990360" y="144792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1µM corresponds to 30 molecules/bacter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19720" y="472428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crease of the transcription rate and cell volume with equal factors keeps the protein level constant, but increases 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38080" y="4232160"/>
            <a:ext cx="4191120" cy="247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rcRect l="0" t="0" r="1473" b="0"/>
          <a:stretch/>
        </p:blipFill>
        <p:spPr>
          <a:xfrm>
            <a:off x="685800" y="1728720"/>
            <a:ext cx="4343400" cy="2446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87480" y="914400"/>
            <a:ext cx="62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scribes the effect that an increase of the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ranslation rat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so increases the fluct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197320" y="333684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er transcription rate and cell volu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1280" y="4648320"/>
            <a:ext cx="3903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tein level is constan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t the fluctuations are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noise from mRNA level deter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protein concentration no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8380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ranslationa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bursting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low promotors increa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0" t="0" r="0" b="48039"/>
          <a:stretch/>
        </p:blipFill>
        <p:spPr>
          <a:xfrm>
            <a:off x="1219320" y="3733920"/>
            <a:ext cx="6629400" cy="279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870800" y="23623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Transcriptiona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bur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rcRect l="0" t="0" r="1473" b="0"/>
          <a:stretch/>
        </p:blipFill>
        <p:spPr>
          <a:xfrm>
            <a:off x="1143000" y="1295280"/>
            <a:ext cx="3429000" cy="1930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952520" y="15238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 promotor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562720" y="1981080"/>
            <a:ext cx="1440" cy="3049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657600" y="3809880"/>
            <a:ext cx="2057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7760" y="33274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+ High translat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i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952880" y="3763800"/>
            <a:ext cx="3962520" cy="3017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97680" y="17146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t of differential equations (deterministic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1222560" cy="525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685800" y="2057400"/>
            <a:ext cx="718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t of differential-equations (stochasti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ngevin equa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: concentrations, t: time, v: stoichiometric matrix, r: rates, x(t): white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5562720" y="2133720"/>
            <a:ext cx="1714320" cy="549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85800" y="3581280"/>
            <a:ext cx="38862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xample isomerisati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1s</a:t>
            </a:r>
            <a:r>
              <a:rPr b="0" lang="de-DE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4"/>
          <a:stretch/>
        </p:blipFill>
        <p:spPr>
          <a:xfrm>
            <a:off x="990720" y="4876920"/>
            <a:ext cx="3024000" cy="1292040"/>
          </a:xfrm>
          <a:prstGeom prst="rect">
            <a:avLst/>
          </a:prstGeom>
          <a:ln w="0">
            <a:noFill/>
          </a:ln>
        </p:spPr>
      </p:pic>
      <p:sp>
        <p:nvSpPr>
          <p:cNvPr id="115" name="Line 9"/>
          <p:cNvSpPr/>
          <p:nvPr/>
        </p:nvSpPr>
        <p:spPr>
          <a:xfrm flipH="1">
            <a:off x="2127240" y="5181480"/>
            <a:ext cx="698400" cy="1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346480" y="48006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362320" y="5410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952880" y="346716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 for isomeris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984240" y="6210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895480" y="62625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5:59:35Z</dcterms:created>
  <dc:creator>Joachim Rädler</dc:creator>
  <dc:description/>
  <dc:language>en-US</dc:language>
  <cp:lastModifiedBy>Dieter Braun</cp:lastModifiedBy>
  <cp:lastPrinted>2005-06-28T09:37:02Z</cp:lastPrinted>
  <dcterms:modified xsi:type="dcterms:W3CDTF">2024-12-02T14:09:25Z</dcterms:modified>
  <cp:revision>57</cp:revision>
  <dc:subject/>
  <dc:title>PowerPoint-Präsentation</dc:title>
</cp:coreProperties>
</file>